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853-C2FE-4440-860F-73EAB02F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F51-4321-4A29-9BFC-093EAB39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1DC-9CA6-4A32-9EC3-8577C626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D94-E2E9-443B-BBB0-CFF28DF3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BAE-C73A-4F56-AA07-3C3C8BB7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21B-470E-44AA-9767-69F1BC9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85F-1D80-4405-89E9-D5E4141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2D4-BE69-4CEF-AEF7-D4F2A9CC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FAD-9F5C-4267-ABF3-09F5C396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032-C1FB-47D5-B1EE-3487867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D63-1395-442D-A0B3-8F7BED3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94D-1757-40FD-A16B-0DEB0A44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502-56EA-44F9-B02B-7CA370D7C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equal to…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you know your answer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Ex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r digit which is the number that is be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digit which is the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ltiply the base (sometime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that can be multiplied by itsel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ime to get a given product (eg. 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 so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root of 25 is 5 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24280" y="5562720"/>
                <a:ext cx="5986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598840" y="495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70800" y="1438200"/>
            <a:ext cx="615960" cy="982800"/>
          </a:xfrm>
          <a:custGeom>
            <a:avLst/>
            <a:gdLst/>
            <a:ahLst/>
            <a:rect l="l" t="t" r="r" b="b"/>
            <a:pathLst>
              <a:path w="1713" h="2729">
                <a:moveTo>
                  <a:pt x="19893" y="3994"/>
                </a:moveTo>
                <a:cubicBezTo>
                  <a:pt x="19710" y="4004"/>
                  <a:pt x="19532" y="4018"/>
                  <a:pt x="19348" y="4018"/>
                </a:cubicBezTo>
                <a:cubicBezTo>
                  <a:pt x="19331" y="4018"/>
                  <a:pt x="19315" y="4018"/>
                  <a:pt x="19298" y="4018"/>
                </a:cubicBezTo>
                <a:cubicBezTo>
                  <a:pt x="19279" y="4196"/>
                  <a:pt x="19306" y="4366"/>
                  <a:pt x="19298" y="4539"/>
                </a:cubicBezTo>
                <a:cubicBezTo>
                  <a:pt x="19275" y="4629"/>
                  <a:pt x="19267" y="4653"/>
                  <a:pt x="19273" y="4713"/>
                </a:cubicBezTo>
                <a:cubicBezTo>
                  <a:pt x="19431" y="4571"/>
                  <a:pt x="19651" y="4413"/>
                  <a:pt x="19844" y="4589"/>
                </a:cubicBezTo>
                <a:cubicBezTo>
                  <a:pt x="20029" y="4758"/>
                  <a:pt x="19891" y="5027"/>
                  <a:pt x="19695" y="5110"/>
                </a:cubicBezTo>
                <a:cubicBezTo>
                  <a:pt x="19544" y="5174"/>
                  <a:pt x="19281" y="5218"/>
                  <a:pt x="19124" y="5159"/>
                </a:cubicBezTo>
                <a:cubicBezTo>
                  <a:pt x="19108" y="5151"/>
                  <a:pt x="19091" y="5143"/>
                  <a:pt x="19075" y="5135"/>
                </a:cubicBezTo>
              </a:path>
              <a:path w="1713" h="2729">
                <a:moveTo>
                  <a:pt x="19447" y="5457"/>
                </a:moveTo>
                <a:cubicBezTo>
                  <a:pt x="19398" y="5618"/>
                  <a:pt x="19320" y="5765"/>
                  <a:pt x="19273" y="5928"/>
                </a:cubicBezTo>
              </a:path>
              <a:path w="1713" h="2729">
                <a:moveTo>
                  <a:pt x="19149" y="5631"/>
                </a:moveTo>
                <a:cubicBezTo>
                  <a:pt x="19236" y="5557"/>
                  <a:pt x="19388" y="5394"/>
                  <a:pt x="19521" y="5432"/>
                </a:cubicBezTo>
                <a:cubicBezTo>
                  <a:pt x="19625" y="5462"/>
                  <a:pt x="19632" y="5596"/>
                  <a:pt x="19645" y="5680"/>
                </a:cubicBezTo>
                <a:cubicBezTo>
                  <a:pt x="19645" y="5697"/>
                  <a:pt x="19645" y="5713"/>
                  <a:pt x="19645" y="5730"/>
                </a:cubicBezTo>
              </a:path>
              <a:path w="1713" h="2729">
                <a:moveTo>
                  <a:pt x="18554" y="6152"/>
                </a:moveTo>
                <a:cubicBezTo>
                  <a:pt x="18527" y="6349"/>
                  <a:pt x="18544" y="6524"/>
                  <a:pt x="18554" y="6722"/>
                </a:cubicBezTo>
                <a:cubicBezTo>
                  <a:pt x="18608" y="6509"/>
                  <a:pt x="18647" y="6457"/>
                  <a:pt x="18852" y="6375"/>
                </a:cubicBezTo>
                <a:cubicBezTo>
                  <a:pt x="18953" y="6452"/>
                  <a:pt x="19080" y="6599"/>
                  <a:pt x="18901" y="6697"/>
                </a:cubicBezTo>
                <a:cubicBezTo>
                  <a:pt x="18820" y="6742"/>
                  <a:pt x="18669" y="6753"/>
                  <a:pt x="18628" y="6672"/>
                </a:cubicBezTo>
              </a:path>
              <a:path w="1713" h="2729">
                <a:moveTo>
                  <a:pt x="19323" y="6449"/>
                </a:moveTo>
                <a:cubicBezTo>
                  <a:pt x="19299" y="6377"/>
                  <a:pt x="19292" y="6354"/>
                  <a:pt x="19248" y="6325"/>
                </a:cubicBezTo>
                <a:cubicBezTo>
                  <a:pt x="19168" y="6372"/>
                  <a:pt x="18947" y="6552"/>
                  <a:pt x="19075" y="6672"/>
                </a:cubicBezTo>
                <a:cubicBezTo>
                  <a:pt x="19191" y="6781"/>
                  <a:pt x="19285" y="6452"/>
                  <a:pt x="19298" y="6424"/>
                </a:cubicBezTo>
                <a:cubicBezTo>
                  <a:pt x="19298" y="6373"/>
                  <a:pt x="19356" y="6572"/>
                  <a:pt x="19372" y="6598"/>
                </a:cubicBezTo>
                <a:cubicBezTo>
                  <a:pt x="19380" y="6606"/>
                  <a:pt x="19389" y="6615"/>
                  <a:pt x="19397" y="6623"/>
                </a:cubicBezTo>
              </a:path>
              <a:path w="1713" h="2729">
                <a:moveTo>
                  <a:pt x="19645" y="6226"/>
                </a:moveTo>
                <a:cubicBezTo>
                  <a:pt x="19576" y="6272"/>
                  <a:pt x="19556" y="6285"/>
                  <a:pt x="19521" y="6325"/>
                </a:cubicBezTo>
                <a:cubicBezTo>
                  <a:pt x="19611" y="6362"/>
                  <a:pt x="19866" y="6387"/>
                  <a:pt x="19794" y="6548"/>
                </a:cubicBezTo>
                <a:cubicBezTo>
                  <a:pt x="19709" y="6634"/>
                  <a:pt x="19670" y="6661"/>
                  <a:pt x="19571" y="6648"/>
                </a:cubicBezTo>
              </a:path>
              <a:path w="1713" h="2729">
                <a:moveTo>
                  <a:pt x="19918" y="6325"/>
                </a:moveTo>
                <a:cubicBezTo>
                  <a:pt x="20022" y="6315"/>
                  <a:pt x="20102" y="6314"/>
                  <a:pt x="20166" y="6251"/>
                </a:cubicBezTo>
                <a:cubicBezTo>
                  <a:pt x="20078" y="6171"/>
                  <a:pt x="20003" y="6110"/>
                  <a:pt x="19918" y="6276"/>
                </a:cubicBezTo>
                <a:cubicBezTo>
                  <a:pt x="19816" y="6474"/>
                  <a:pt x="19972" y="6635"/>
                  <a:pt x="20166" y="6573"/>
                </a:cubicBezTo>
                <a:cubicBezTo>
                  <a:pt x="20191" y="6557"/>
                  <a:pt x="20216" y="6540"/>
                  <a:pt x="20241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8040" y="1303200"/>
            <a:ext cx="1170000" cy="866880"/>
          </a:xfrm>
          <a:custGeom>
            <a:avLst/>
            <a:gdLst/>
            <a:ahLst/>
            <a:rect l="l" t="t" r="r" b="b"/>
            <a:pathLst>
              <a:path w="3250" h="2408">
                <a:moveTo>
                  <a:pt x="20439" y="3646"/>
                </a:moveTo>
                <a:cubicBezTo>
                  <a:pt x="20541" y="3640"/>
                  <a:pt x="20615" y="3631"/>
                  <a:pt x="20712" y="3646"/>
                </a:cubicBezTo>
                <a:cubicBezTo>
                  <a:pt x="20712" y="3812"/>
                  <a:pt x="20690" y="3814"/>
                  <a:pt x="20563" y="3894"/>
                </a:cubicBezTo>
                <a:cubicBezTo>
                  <a:pt x="20555" y="3902"/>
                  <a:pt x="20546" y="3911"/>
                  <a:pt x="20538" y="3919"/>
                </a:cubicBezTo>
                <a:cubicBezTo>
                  <a:pt x="20598" y="3887"/>
                  <a:pt x="20858" y="3805"/>
                  <a:pt x="20762" y="4018"/>
                </a:cubicBezTo>
                <a:cubicBezTo>
                  <a:pt x="20700" y="4155"/>
                  <a:pt x="20551" y="4133"/>
                  <a:pt x="20439" y="4118"/>
                </a:cubicBezTo>
              </a:path>
              <a:path w="3250" h="2408">
                <a:moveTo>
                  <a:pt x="21208" y="4291"/>
                </a:moveTo>
                <a:cubicBezTo>
                  <a:pt x="21191" y="4291"/>
                  <a:pt x="21175" y="4291"/>
                  <a:pt x="21158" y="4291"/>
                </a:cubicBezTo>
                <a:cubicBezTo>
                  <a:pt x="21244" y="4351"/>
                  <a:pt x="21261" y="4374"/>
                  <a:pt x="21307" y="4465"/>
                </a:cubicBezTo>
                <a:cubicBezTo>
                  <a:pt x="21315" y="4481"/>
                  <a:pt x="21324" y="4498"/>
                  <a:pt x="21332" y="4514"/>
                </a:cubicBezTo>
              </a:path>
              <a:path w="3250" h="2408">
                <a:moveTo>
                  <a:pt x="21059" y="4266"/>
                </a:moveTo>
                <a:cubicBezTo>
                  <a:pt x="21059" y="4336"/>
                  <a:pt x="21084" y="4566"/>
                  <a:pt x="21034" y="4614"/>
                </a:cubicBezTo>
                <a:cubicBezTo>
                  <a:pt x="20956" y="4689"/>
                  <a:pt x="21055" y="4400"/>
                  <a:pt x="21059" y="4291"/>
                </a:cubicBezTo>
                <a:cubicBezTo>
                  <a:pt x="21064" y="4152"/>
                  <a:pt x="21213" y="4235"/>
                  <a:pt x="21332" y="4242"/>
                </a:cubicBezTo>
              </a:path>
              <a:path w="3250" h="2408">
                <a:moveTo>
                  <a:pt x="21233" y="4242"/>
                </a:moveTo>
                <a:cubicBezTo>
                  <a:pt x="21302" y="4200"/>
                  <a:pt x="21395" y="4200"/>
                  <a:pt x="21481" y="4192"/>
                </a:cubicBezTo>
              </a:path>
              <a:path w="3250" h="2408">
                <a:moveTo>
                  <a:pt x="20985" y="5085"/>
                </a:moveTo>
                <a:cubicBezTo>
                  <a:pt x="21039" y="5060"/>
                  <a:pt x="21129" y="5053"/>
                  <a:pt x="21134" y="4986"/>
                </a:cubicBezTo>
                <a:cubicBezTo>
                  <a:pt x="21134" y="4934"/>
                  <a:pt x="21132" y="4916"/>
                  <a:pt x="21084" y="4911"/>
                </a:cubicBezTo>
                <a:cubicBezTo>
                  <a:pt x="21001" y="4959"/>
                  <a:pt x="20963" y="5014"/>
                  <a:pt x="20935" y="5110"/>
                </a:cubicBezTo>
                <a:cubicBezTo>
                  <a:pt x="20889" y="5266"/>
                  <a:pt x="21162" y="5193"/>
                  <a:pt x="21208" y="5184"/>
                </a:cubicBezTo>
              </a:path>
              <a:path w="3250" h="2408">
                <a:moveTo>
                  <a:pt x="21258" y="4961"/>
                </a:moveTo>
                <a:cubicBezTo>
                  <a:pt x="21329" y="5026"/>
                  <a:pt x="21402" y="5080"/>
                  <a:pt x="21481" y="5135"/>
                </a:cubicBezTo>
              </a:path>
              <a:path w="3250" h="2408">
                <a:moveTo>
                  <a:pt x="21481" y="4837"/>
                </a:moveTo>
                <a:cubicBezTo>
                  <a:pt x="21415" y="4969"/>
                  <a:pt x="21365" y="5098"/>
                  <a:pt x="21307" y="5234"/>
                </a:cubicBezTo>
              </a:path>
              <a:path w="3250" h="2408">
                <a:moveTo>
                  <a:pt x="21605" y="4961"/>
                </a:moveTo>
                <a:cubicBezTo>
                  <a:pt x="21615" y="5085"/>
                  <a:pt x="21623" y="5216"/>
                  <a:pt x="21654" y="5333"/>
                </a:cubicBezTo>
              </a:path>
              <a:path w="3250" h="2408">
                <a:moveTo>
                  <a:pt x="21580" y="4862"/>
                </a:moveTo>
                <a:cubicBezTo>
                  <a:pt x="21722" y="4879"/>
                  <a:pt x="21766" y="4898"/>
                  <a:pt x="21878" y="4986"/>
                </a:cubicBezTo>
                <a:cubicBezTo>
                  <a:pt x="21798" y="5092"/>
                  <a:pt x="21793" y="5070"/>
                  <a:pt x="21654" y="5085"/>
                </a:cubicBezTo>
              </a:path>
              <a:path w="3250" h="2408">
                <a:moveTo>
                  <a:pt x="21977" y="4762"/>
                </a:moveTo>
                <a:cubicBezTo>
                  <a:pt x="21918" y="4811"/>
                  <a:pt x="21726" y="5000"/>
                  <a:pt x="21927" y="5035"/>
                </a:cubicBezTo>
                <a:cubicBezTo>
                  <a:pt x="22117" y="5068"/>
                  <a:pt x="22098" y="4905"/>
                  <a:pt x="22027" y="4812"/>
                </a:cubicBezTo>
              </a:path>
              <a:path w="3250" h="2408">
                <a:moveTo>
                  <a:pt x="22175" y="4862"/>
                </a:moveTo>
                <a:cubicBezTo>
                  <a:pt x="22183" y="4887"/>
                  <a:pt x="22192" y="4911"/>
                  <a:pt x="22200" y="4936"/>
                </a:cubicBezTo>
                <a:cubicBezTo>
                  <a:pt x="22200" y="4858"/>
                  <a:pt x="22225" y="4696"/>
                  <a:pt x="22324" y="4837"/>
                </a:cubicBezTo>
                <a:cubicBezTo>
                  <a:pt x="22347" y="4904"/>
                  <a:pt x="22352" y="4922"/>
                  <a:pt x="22374" y="4961"/>
                </a:cubicBezTo>
              </a:path>
              <a:path w="3250" h="2408">
                <a:moveTo>
                  <a:pt x="22399" y="4787"/>
                </a:moveTo>
                <a:cubicBezTo>
                  <a:pt x="22486" y="4744"/>
                  <a:pt x="22509" y="4737"/>
                  <a:pt x="22547" y="4688"/>
                </a:cubicBezTo>
                <a:cubicBezTo>
                  <a:pt x="22464" y="4688"/>
                  <a:pt x="22270" y="4792"/>
                  <a:pt x="22448" y="4862"/>
                </a:cubicBezTo>
                <a:cubicBezTo>
                  <a:pt x="22489" y="4870"/>
                  <a:pt x="22531" y="4879"/>
                  <a:pt x="22572" y="4887"/>
                </a:cubicBezTo>
              </a:path>
              <a:path w="3250" h="2408">
                <a:moveTo>
                  <a:pt x="22771" y="4688"/>
                </a:moveTo>
                <a:cubicBezTo>
                  <a:pt x="22771" y="4705"/>
                  <a:pt x="22771" y="4721"/>
                  <a:pt x="22771" y="4738"/>
                </a:cubicBezTo>
                <a:cubicBezTo>
                  <a:pt x="22771" y="4670"/>
                  <a:pt x="22754" y="4599"/>
                  <a:pt x="22820" y="4614"/>
                </a:cubicBezTo>
                <a:cubicBezTo>
                  <a:pt x="22905" y="4634"/>
                  <a:pt x="22954" y="4738"/>
                  <a:pt x="22969" y="4812"/>
                </a:cubicBezTo>
              </a:path>
              <a:path w="3250" h="2408">
                <a:moveTo>
                  <a:pt x="22994" y="4217"/>
                </a:moveTo>
                <a:cubicBezTo>
                  <a:pt x="23017" y="4355"/>
                  <a:pt x="23052" y="4505"/>
                  <a:pt x="23093" y="4638"/>
                </a:cubicBezTo>
              </a:path>
              <a:path w="3250" h="2408">
                <a:moveTo>
                  <a:pt x="23044" y="4440"/>
                </a:moveTo>
                <a:cubicBezTo>
                  <a:pt x="23169" y="4419"/>
                  <a:pt x="23196" y="4418"/>
                  <a:pt x="23267" y="4390"/>
                </a:cubicBezTo>
              </a:path>
              <a:path w="3250" h="2408">
                <a:moveTo>
                  <a:pt x="21233" y="5308"/>
                </a:moveTo>
                <a:cubicBezTo>
                  <a:pt x="21130" y="5426"/>
                  <a:pt x="20820" y="5801"/>
                  <a:pt x="21010" y="5953"/>
                </a:cubicBezTo>
                <a:cubicBezTo>
                  <a:pt x="21125" y="5982"/>
                  <a:pt x="21174" y="5993"/>
                  <a:pt x="21258" y="6003"/>
                </a:cubicBezTo>
              </a:path>
              <a:path w="3250" h="2408">
                <a:moveTo>
                  <a:pt x="21431" y="5655"/>
                </a:moveTo>
                <a:cubicBezTo>
                  <a:pt x="21465" y="5785"/>
                  <a:pt x="21483" y="5896"/>
                  <a:pt x="21506" y="6028"/>
                </a:cubicBezTo>
              </a:path>
              <a:path w="3250" h="2408">
                <a:moveTo>
                  <a:pt x="21332" y="5507"/>
                </a:moveTo>
                <a:cubicBezTo>
                  <a:pt x="21535" y="5473"/>
                  <a:pt x="21618" y="5480"/>
                  <a:pt x="21779" y="5606"/>
                </a:cubicBezTo>
                <a:cubicBezTo>
                  <a:pt x="21697" y="5687"/>
                  <a:pt x="21643" y="5714"/>
                  <a:pt x="21530" y="5755"/>
                </a:cubicBezTo>
              </a:path>
              <a:path w="3250" h="2408">
                <a:moveTo>
                  <a:pt x="21903" y="5432"/>
                </a:moveTo>
                <a:cubicBezTo>
                  <a:pt x="21823" y="5522"/>
                  <a:pt x="21819" y="5536"/>
                  <a:pt x="21803" y="5655"/>
                </a:cubicBezTo>
                <a:cubicBezTo>
                  <a:pt x="21893" y="5649"/>
                  <a:pt x="22146" y="5627"/>
                  <a:pt x="22051" y="5457"/>
                </a:cubicBezTo>
                <a:cubicBezTo>
                  <a:pt x="22026" y="5440"/>
                  <a:pt x="22002" y="5424"/>
                  <a:pt x="21977" y="5407"/>
                </a:cubicBezTo>
              </a:path>
              <a:path w="3250" h="2408">
                <a:moveTo>
                  <a:pt x="22175" y="5358"/>
                </a:moveTo>
                <a:cubicBezTo>
                  <a:pt x="22175" y="5436"/>
                  <a:pt x="22176" y="5485"/>
                  <a:pt x="22200" y="5556"/>
                </a:cubicBezTo>
                <a:cubicBezTo>
                  <a:pt x="22348" y="5526"/>
                  <a:pt x="22347" y="5509"/>
                  <a:pt x="22448" y="5383"/>
                </a:cubicBezTo>
                <a:cubicBezTo>
                  <a:pt x="22491" y="5504"/>
                  <a:pt x="22620" y="5669"/>
                  <a:pt x="22696" y="5432"/>
                </a:cubicBezTo>
                <a:cubicBezTo>
                  <a:pt x="22696" y="5336"/>
                  <a:pt x="22698" y="5306"/>
                  <a:pt x="22647" y="5259"/>
                </a:cubicBezTo>
              </a:path>
              <a:path w="3250" h="2408">
                <a:moveTo>
                  <a:pt x="22796" y="5308"/>
                </a:moveTo>
                <a:cubicBezTo>
                  <a:pt x="22898" y="5280"/>
                  <a:pt x="22928" y="5295"/>
                  <a:pt x="22870" y="5209"/>
                </a:cubicBezTo>
                <a:cubicBezTo>
                  <a:pt x="22828" y="5251"/>
                  <a:pt x="22719" y="5446"/>
                  <a:pt x="22870" y="5457"/>
                </a:cubicBezTo>
                <a:cubicBezTo>
                  <a:pt x="22987" y="5427"/>
                  <a:pt x="23035" y="5407"/>
                  <a:pt x="23093" y="5333"/>
                </a:cubicBezTo>
              </a:path>
              <a:path w="3250" h="2408">
                <a:moveTo>
                  <a:pt x="23192" y="5234"/>
                </a:moveTo>
                <a:cubicBezTo>
                  <a:pt x="23192" y="5283"/>
                  <a:pt x="23192" y="5300"/>
                  <a:pt x="23192" y="5333"/>
                </a:cubicBezTo>
                <a:cubicBezTo>
                  <a:pt x="23199" y="5208"/>
                  <a:pt x="23173" y="5147"/>
                  <a:pt x="23292" y="5110"/>
                </a:cubicBezTo>
                <a:cubicBezTo>
                  <a:pt x="23325" y="5102"/>
                  <a:pt x="23358" y="5093"/>
                  <a:pt x="23391" y="5085"/>
                </a:cubicBezTo>
              </a:path>
              <a:path w="3250" h="2408">
                <a:moveTo>
                  <a:pt x="23366" y="4663"/>
                </a:moveTo>
                <a:cubicBezTo>
                  <a:pt x="23567" y="4764"/>
                  <a:pt x="23655" y="4902"/>
                  <a:pt x="23688" y="5135"/>
                </a:cubicBezTo>
                <a:cubicBezTo>
                  <a:pt x="23714" y="5318"/>
                  <a:pt x="23683" y="5411"/>
                  <a:pt x="2354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3240" y="5616720"/>
            <a:ext cx="803520" cy="428400"/>
          </a:xfrm>
          <a:custGeom>
            <a:avLst/>
            <a:gdLst/>
            <a:ahLst/>
            <a:rect l="l" t="t" r="r" b="b"/>
            <a:pathLst>
              <a:path w="2234" h="1192">
                <a:moveTo>
                  <a:pt x="18182" y="16346"/>
                </a:moveTo>
                <a:cubicBezTo>
                  <a:pt x="18238" y="16500"/>
                  <a:pt x="18363" y="16619"/>
                  <a:pt x="18504" y="16718"/>
                </a:cubicBezTo>
                <a:cubicBezTo>
                  <a:pt x="18521" y="16726"/>
                  <a:pt x="18537" y="16735"/>
                  <a:pt x="18554" y="16743"/>
                </a:cubicBezTo>
                <a:cubicBezTo>
                  <a:pt x="18542" y="16577"/>
                  <a:pt x="18529" y="16412"/>
                  <a:pt x="18504" y="16247"/>
                </a:cubicBezTo>
                <a:cubicBezTo>
                  <a:pt x="18480" y="16083"/>
                  <a:pt x="18418" y="15949"/>
                  <a:pt x="18380" y="15801"/>
                </a:cubicBezTo>
                <a:cubicBezTo>
                  <a:pt x="18380" y="15739"/>
                  <a:pt x="18389" y="15724"/>
                  <a:pt x="18355" y="15701"/>
                </a:cubicBezTo>
                <a:cubicBezTo>
                  <a:pt x="18671" y="15701"/>
                  <a:pt x="18983" y="15691"/>
                  <a:pt x="19298" y="15677"/>
                </a:cubicBezTo>
                <a:cubicBezTo>
                  <a:pt x="19498" y="15668"/>
                  <a:pt x="19722" y="15662"/>
                  <a:pt x="19918" y="15627"/>
                </a:cubicBezTo>
                <a:cubicBezTo>
                  <a:pt x="19999" y="15612"/>
                  <a:pt x="20030" y="15624"/>
                  <a:pt x="20117" y="15627"/>
                </a:cubicBezTo>
                <a:cubicBezTo>
                  <a:pt x="20158" y="15629"/>
                  <a:pt x="20200" y="15627"/>
                  <a:pt x="20241" y="15627"/>
                </a:cubicBezTo>
              </a:path>
              <a:path w="2234" h="1192">
                <a:moveTo>
                  <a:pt x="18157" y="16470"/>
                </a:moveTo>
                <a:cubicBezTo>
                  <a:pt x="18122" y="16424"/>
                  <a:pt x="18060" y="16427"/>
                  <a:pt x="18008" y="16396"/>
                </a:cubicBezTo>
                <a:cubicBezTo>
                  <a:pt x="18078" y="16386"/>
                  <a:pt x="18131" y="16360"/>
                  <a:pt x="18207" y="16346"/>
                </a:cubicBezTo>
                <a:cubicBezTo>
                  <a:pt x="18249" y="16338"/>
                  <a:pt x="18313" y="16529"/>
                  <a:pt x="18331" y="16570"/>
                </a:cubicBezTo>
                <a:cubicBezTo>
                  <a:pt x="18356" y="16625"/>
                  <a:pt x="18404" y="16703"/>
                  <a:pt x="18430" y="16743"/>
                </a:cubicBezTo>
                <a:cubicBezTo>
                  <a:pt x="18446" y="16760"/>
                  <a:pt x="18463" y="16776"/>
                  <a:pt x="18479" y="16793"/>
                </a:cubicBezTo>
                <a:cubicBezTo>
                  <a:pt x="18422" y="16700"/>
                  <a:pt x="18348" y="16626"/>
                  <a:pt x="18306" y="16520"/>
                </a:cubicBezTo>
                <a:cubicBezTo>
                  <a:pt x="18284" y="16464"/>
                  <a:pt x="18270" y="16431"/>
                  <a:pt x="18207" y="16421"/>
                </a:cubicBezTo>
                <a:cubicBezTo>
                  <a:pt x="18143" y="16411"/>
                  <a:pt x="17917" y="16456"/>
                  <a:pt x="18132" y="16421"/>
                </a:cubicBezTo>
                <a:cubicBezTo>
                  <a:pt x="18249" y="16402"/>
                  <a:pt x="18287" y="16363"/>
                  <a:pt x="18331" y="16495"/>
                </a:cubicBezTo>
                <a:cubicBezTo>
                  <a:pt x="18360" y="16584"/>
                  <a:pt x="18371" y="16646"/>
                  <a:pt x="18430" y="167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is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is the exponent o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is multiplied by itself 2 times to ge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squared is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00200" y="5410080"/>
                <a:ext cx="1595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09760" y="29383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414" y="8186"/>
                </a:moveTo>
                <a:cubicBezTo>
                  <a:pt x="1505" y="8140"/>
                  <a:pt x="1548" y="8190"/>
                  <a:pt x="1637" y="8210"/>
                </a:cubicBezTo>
                <a:cubicBezTo>
                  <a:pt x="1757" y="8238"/>
                  <a:pt x="1526" y="8210"/>
                  <a:pt x="1488" y="8210"/>
                </a:cubicBezTo>
                <a:cubicBezTo>
                  <a:pt x="1447" y="8210"/>
                  <a:pt x="1439" y="8210"/>
                  <a:pt x="1414" y="8210"/>
                </a:cubicBezTo>
                <a:cubicBezTo>
                  <a:pt x="1489" y="8210"/>
                  <a:pt x="1531" y="8215"/>
                  <a:pt x="1588" y="8235"/>
                </a:cubicBezTo>
                <a:cubicBezTo>
                  <a:pt x="1690" y="8235"/>
                  <a:pt x="1337" y="8181"/>
                  <a:pt x="1439" y="8186"/>
                </a:cubicBezTo>
                <a:cubicBezTo>
                  <a:pt x="1571" y="8207"/>
                  <a:pt x="1603" y="8215"/>
                  <a:pt x="168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4240" y="2813040"/>
            <a:ext cx="152640" cy="17640"/>
          </a:xfrm>
          <a:custGeom>
            <a:avLst/>
            <a:gdLst/>
            <a:ahLst/>
            <a:rect l="l" t="t" r="r" b="b"/>
            <a:pathLst>
              <a:path w="423" h="51">
                <a:moveTo>
                  <a:pt x="2009" y="7813"/>
                </a:moveTo>
                <a:cubicBezTo>
                  <a:pt x="2141" y="7813"/>
                  <a:pt x="2274" y="7813"/>
                  <a:pt x="2406" y="7813"/>
                </a:cubicBezTo>
                <a:cubicBezTo>
                  <a:pt x="2326" y="7849"/>
                  <a:pt x="2270" y="7863"/>
                  <a:pt x="2183" y="7863"/>
                </a:cubicBezTo>
                <a:cubicBezTo>
                  <a:pt x="2117" y="7863"/>
                  <a:pt x="2050" y="7863"/>
                  <a:pt x="1984" y="7863"/>
                </a:cubicBezTo>
                <a:cubicBezTo>
                  <a:pt x="2067" y="7827"/>
                  <a:pt x="2051" y="7858"/>
                  <a:pt x="2133" y="7863"/>
                </a:cubicBezTo>
                <a:cubicBezTo>
                  <a:pt x="2190" y="7866"/>
                  <a:pt x="2249" y="7863"/>
                  <a:pt x="2307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x8x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8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x 8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 is not the square root of 512 because it had to be multiplied 3 times instead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0040" y="2705040"/>
            <a:ext cx="330120" cy="14436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4638" y="7689"/>
                </a:moveTo>
                <a:cubicBezTo>
                  <a:pt x="4638" y="7805"/>
                  <a:pt x="4638" y="7838"/>
                  <a:pt x="4638" y="7913"/>
                </a:cubicBezTo>
                <a:cubicBezTo>
                  <a:pt x="4857" y="7894"/>
                  <a:pt x="5060" y="7863"/>
                  <a:pt x="5283" y="7863"/>
                </a:cubicBezTo>
                <a:cubicBezTo>
                  <a:pt x="5385" y="7863"/>
                  <a:pt x="5443" y="7900"/>
                  <a:pt x="5531" y="7913"/>
                </a:cubicBezTo>
                <a:cubicBezTo>
                  <a:pt x="5551" y="7777"/>
                  <a:pt x="5561" y="7670"/>
                  <a:pt x="5531" y="7541"/>
                </a:cubicBezTo>
                <a:cubicBezTo>
                  <a:pt x="5531" y="7533"/>
                  <a:pt x="5531" y="7524"/>
                  <a:pt x="5531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5120" y="3946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294" y="10964"/>
                </a:moveTo>
                <a:lnTo>
                  <a:pt x="10294" y="1096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2000" y="431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952" y="11981"/>
                </a:moveTo>
                <a:lnTo>
                  <a:pt x="2952" y="1198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17720" y="639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28" y="17760"/>
                </a:moveTo>
                <a:lnTo>
                  <a:pt x="2828" y="1776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2714760"/>
            <a:ext cx="162000" cy="54000"/>
          </a:xfrm>
          <a:custGeom>
            <a:avLst/>
            <a:gdLst/>
            <a:ahLst/>
            <a:rect l="l" t="t" r="r" b="b"/>
            <a:pathLst>
              <a:path w="447" h="149">
                <a:moveTo>
                  <a:pt x="2158" y="7541"/>
                </a:moveTo>
                <a:cubicBezTo>
                  <a:pt x="2182" y="7657"/>
                  <a:pt x="2237" y="7597"/>
                  <a:pt x="2332" y="7615"/>
                </a:cubicBezTo>
                <a:cubicBezTo>
                  <a:pt x="2398" y="7627"/>
                  <a:pt x="2497" y="7654"/>
                  <a:pt x="2431" y="7640"/>
                </a:cubicBezTo>
                <a:cubicBezTo>
                  <a:pt x="2315" y="7616"/>
                  <a:pt x="2004" y="7553"/>
                  <a:pt x="2084" y="7640"/>
                </a:cubicBezTo>
                <a:cubicBezTo>
                  <a:pt x="2111" y="7669"/>
                  <a:pt x="2357" y="7594"/>
                  <a:pt x="2406" y="7590"/>
                </a:cubicBezTo>
                <a:cubicBezTo>
                  <a:pt x="2292" y="7643"/>
                  <a:pt x="2212" y="7640"/>
                  <a:pt x="2084" y="7640"/>
                </a:cubicBezTo>
                <a:cubicBezTo>
                  <a:pt x="1976" y="7640"/>
                  <a:pt x="2200" y="7628"/>
                  <a:pt x="2307" y="7640"/>
                </a:cubicBezTo>
                <a:cubicBezTo>
                  <a:pt x="2578" y="7671"/>
                  <a:pt x="2161" y="7687"/>
                  <a:pt x="2108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048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“five to the sixth po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5x5x5x5x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15,62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can use a calculator to evaluate since they are such large numbers, but be sure you write out the product form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4840" y="4000680"/>
            <a:ext cx="1438200" cy="107640"/>
          </a:xfrm>
          <a:custGeom>
            <a:avLst/>
            <a:gdLst/>
            <a:ahLst/>
            <a:rect l="l" t="t" r="r" b="b"/>
            <a:pathLst>
              <a:path w="3995" h="299">
                <a:moveTo>
                  <a:pt x="13568" y="11410"/>
                </a:moveTo>
                <a:cubicBezTo>
                  <a:pt x="13661" y="11403"/>
                  <a:pt x="13750" y="11388"/>
                  <a:pt x="13841" y="11361"/>
                </a:cubicBezTo>
                <a:cubicBezTo>
                  <a:pt x="13918" y="11338"/>
                  <a:pt x="14010" y="11297"/>
                  <a:pt x="14089" y="11286"/>
                </a:cubicBezTo>
                <a:cubicBezTo>
                  <a:pt x="14182" y="11273"/>
                  <a:pt x="14269" y="11278"/>
                  <a:pt x="14362" y="11261"/>
                </a:cubicBezTo>
                <a:cubicBezTo>
                  <a:pt x="14471" y="11241"/>
                  <a:pt x="14552" y="11257"/>
                  <a:pt x="14660" y="11261"/>
                </a:cubicBezTo>
                <a:cubicBezTo>
                  <a:pt x="14836" y="11267"/>
                  <a:pt x="15007" y="11253"/>
                  <a:pt x="15180" y="11237"/>
                </a:cubicBezTo>
                <a:cubicBezTo>
                  <a:pt x="15265" y="11229"/>
                  <a:pt x="15346" y="11228"/>
                  <a:pt x="15429" y="11212"/>
                </a:cubicBezTo>
                <a:cubicBezTo>
                  <a:pt x="15578" y="11184"/>
                  <a:pt x="15725" y="11180"/>
                  <a:pt x="15875" y="11162"/>
                </a:cubicBezTo>
                <a:cubicBezTo>
                  <a:pt x="16081" y="11137"/>
                  <a:pt x="16287" y="11116"/>
                  <a:pt x="16495" y="11112"/>
                </a:cubicBezTo>
                <a:cubicBezTo>
                  <a:pt x="16788" y="11107"/>
                  <a:pt x="17128" y="11065"/>
                  <a:pt x="17413" y="11137"/>
                </a:cubicBezTo>
                <a:cubicBezTo>
                  <a:pt x="17461" y="11149"/>
                  <a:pt x="17513" y="11151"/>
                  <a:pt x="17562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the 7th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due to shortened clas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7:52:26Z</dcterms:created>
  <dc:creator>deanne elizabeth mcgrath</dc:creator>
  <dc:description/>
  <dc:language>en-US</dc:language>
  <cp:lastModifiedBy>deanne elizabeth mcgrath</cp:lastModifiedBy>
  <dcterms:modified xsi:type="dcterms:W3CDTF">2010-09-07T17:54:26Z</dcterms:modified>
  <cp:revision>1</cp:revision>
  <dc:subject/>
  <dc:title>Warm-up:     53 is equal to…  a.  15 b. 53 c. 125  Explain how you know your answer is correct.</dc:title>
</cp:coreProperties>
</file>